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560-FEB3-4429-9C5C-B1ACC777AF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BA65-8742-4ECB-A71E-01443A4871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6C9-1DD4-4E21-B2D3-0AA3EAB357F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7C9-285C-4589-BA1D-E075986944B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3C3-B3D7-4A8C-9B5F-2C69FAA19B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6EE-1C4B-44EF-8242-E2E5BBF743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03D1-A452-4C83-AE24-B032E0F22F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D4F-66AC-45A5-9F5F-F195102D60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5A7-0ACF-4567-B31B-93A57759D2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4F3-4412-4593-8F4D-27BF302F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E82-1B7B-4988-8BB8-809055FE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FEC-2509-4695-8517-028592F2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A65-14E3-41D5-BCB6-D5338FB3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026F-2EC0-4B30-AB68-282CF840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AE4B-F7D1-40EA-A0B2-205138D1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170-E833-4B96-8AAD-032DC0F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6C5-F2CB-44E1-B873-6FBEBE8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430A-0965-4F3B-9DCF-2C60244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C444-C7BB-481B-AD51-2D27139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8230-4307-4D09-90F9-C422DCC1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ABE-9666-46DE-9E43-2C8EC6E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4863-D50F-422F-A1E3-02872009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B1A3-5CFB-48E7-8F49-2BB4B79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6B3A-74DC-4035-B4B1-77535869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36C-4A2F-4719-B687-E31BF5E8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9EB8-06B7-4904-AAA3-55536143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3BC7-99D4-4F0A-A329-975DBB65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F319-DD23-4518-9299-07F255A6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D4AB-1877-41FF-AF91-5FB012E5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4C34-3E7A-4D5C-8D5E-F03E2B6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15CD-DE8C-4C64-AEB2-6DA06ABF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F74-CD00-4F53-9C65-63D0DB55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FDD5-2F12-4DA8-ADEC-ABE3E097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97C8-EFA8-4409-B48F-F931693E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C3EC-48E7-4152-A28D-A621A4F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3DA1-FE66-4E4F-BEA6-CEBBB7A9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C2091-9F0A-453B-AF44-F11FE83E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29CA-F12A-478B-94AA-A8B94468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C506-AAD3-4185-9AD2-E1B0E988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69B8-869D-4BB0-AAF7-704E4DC2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0393C-EF0B-4F1B-8B4C-AFE69AF4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4405E-914F-4403-9E11-6CB186DD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C39-0F05-4825-ABED-CA2B3CE6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A97C-5502-4E42-ABC3-5517F5E2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9559-BD7E-4D08-84F1-FAA3C77D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99A29-E2AA-490D-B232-8B4D10C3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3CEA6-20B0-4371-B5DF-5648663D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9E06-14E2-4465-A525-1090E12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0F89-E804-40E7-B950-75D8D4F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1994-4043-4C54-8E29-8507D9FF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C7BA-6B53-434F-AED4-166B08C6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B30A-2DD9-4ACB-9851-C5F6D33A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0593-BC82-4A10-A53A-0A75C98D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105-D766-4E5D-BDF0-DDEFF5C3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D4A7-F20E-4298-899A-45635A7B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76746-C1D6-48F0-A8CF-4744298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B8FEE-8821-4239-9DFB-1BEF5D2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3B34-AC52-4DDE-B87C-C06C52A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B7DB-56F9-4A69-8CBD-585E2DF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EF691-7954-4976-B952-0EC3467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F66B-BAA5-48DF-A30D-FC227395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098B-8F96-44E5-8DB0-4AF84AA7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A6815-4BCF-4D42-9564-905E4DB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7ADBE-875B-4C84-89F8-DA67E3A0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B7E-21E1-451E-92AC-8F81EE01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5353-8B95-4931-AE7B-A2C3D75C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D5AF-E7FA-4AD8-89E4-E876C2E8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66F0-9012-49E0-8B76-99D70FF2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43942-A193-478D-9C80-1CEF9972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334BD-03CC-4152-AD61-EB783270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DB465-9200-43C1-8F11-3D368B1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54EFE-EBA4-49D0-914A-60DB38D1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BB1DC-2E54-46BF-8B82-A9EDAF0A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2E1C8-9FEA-4649-BFC3-F0089291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1A58-CE2A-4681-A37F-372D040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34E-1F6D-4AEC-B814-DA3C634F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5F6B3-251F-494D-8676-F78E004E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788C-6C23-4D21-8D5D-BA636848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10D1-DD39-4AB8-B061-E0A00048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0AB-DDDC-4B49-BD88-B10F9B7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632-63A9-422F-868D-C72BAA8C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B4A3-EC33-4A46-AEC8-D322FEC2FBB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13F7-95A3-482F-950F-9C4BFF8E8C3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B141-3A52-470E-A3BA-FC04BF0D945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0694-EA03-44A5-A985-D0DC3A0545F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9700-15AC-4EEB-97F3-5F04954B330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DDF8-0520-4498-A93C-0F15C649247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AC59-8601-4D11-8273-ABE1427C9D3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2A77-5683-4E11-BBA3-265302E27A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534C-855C-47B0-AC6E-D707016C1CD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7D2-AA0C-4CA4-A871-CA5FA35DD8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554-3E88-499F-BFF0-053EC1DC569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F3ED-4D03-422B-B8B4-54E0E1DFBD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BRIL/20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mai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1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692280"/>
            <a:ext cx="1219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2320" y="6496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22320" y="1411200"/>
            <a:ext cx="12169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0" y="1450800"/>
            <a:ext cx="1219212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36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47520" y="1346040"/>
            <a:ext cx="1214460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7520" y="648828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7520" y="1486080"/>
            <a:ext cx="1214460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abril/2018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47520" y="648828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47520" y="1700280"/>
            <a:ext cx="121446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52560" y="1341360"/>
            <a:ext cx="121395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413000"/>
            <a:ext cx="12192120" cy="50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6416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343160"/>
            <a:ext cx="1214424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abril/2017, março/2018 e abril/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20520" y="6492960"/>
            <a:ext cx="88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47520" y="1125360"/>
            <a:ext cx="120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abril de 2018, a quantidade de benefícios previdenciários e acidentários emitidos pela Previdência aumentou 31,5%, passando de 22,8 milhões para 29,9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8 a 2017 (dezembro), 2018 (abr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680" y="1582560"/>
            <a:ext cx="1218744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1 a 2018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abril de cada ano – Em R$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16532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71,88, na média de janeiro e abril de 2018, o que representou um crescimento de 10,5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0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3068640" y="5157720"/>
            <a:ext cx="34941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960" y="2349360"/>
            <a:ext cx="3527280" cy="2743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442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6334200"/>
            <a:ext cx="1214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0% dos benefícios pagos pelo INSS em abril/2018 possuíam o valor de até um salário mínimo, o que representa um contingente de 23,2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abril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520" y="1413000"/>
            <a:ext cx="12096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bril/2017, março/2018 e abril/2018, Acumulado Janeiro a abril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648828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0" y="1197000"/>
            <a:ext cx="121921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10 a 2018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abril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92240" y="64245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0" y="1177920"/>
            <a:ext cx="12192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-15840" y="1413000"/>
            <a:ext cx="1220796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8160" y="1341360"/>
            <a:ext cx="12106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7640" y="635328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20520" y="1557360"/>
            <a:ext cx="121716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3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473120"/>
            <a:ext cx="121921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7640" y="646416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5-30T21:35:08Z</dcterms:modified>
  <cp:revision>418</cp:revision>
  <dc:subject/>
  <dc:title>Demografia</dc:title>
</cp:coreProperties>
</file>